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34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39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62A-93A2-42DC-9AC8-C3CFDAA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49A-CE7F-428E-907B-A66850E0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4AC-BC5A-43DE-BA09-4C0D7A1F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381-5B70-4201-A8A9-400DC72A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177-6BFD-463B-8A88-26B12C49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3A45-BFFF-4861-A7F2-C924F68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F3F-42B9-499F-994A-8F3C5F0E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3E57-F38D-4126-B4FA-0437976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E4DF-2DF4-4B25-8311-896EE4C2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28FC-3B41-44AB-B0E5-D2CA5D0D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A10-8E2B-4A47-9DFB-5B9B899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911-3B76-459B-8667-BB932C9C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56DC-1ADF-4106-BDEA-73B1B9C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911-4D63-4B45-A07A-3EEC849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8784-8DC6-48BC-AC2B-F4CC0FB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C6D-0281-4332-8C47-D7274DBC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4DA3-659F-4952-BD5B-33639AAE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F0C73-C298-4ACC-9209-8006706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3137D-DE1B-4AB1-BCD4-11061F61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72149-F7DC-4838-8E16-40C097F4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18571-9E9E-4635-9892-9807E685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686FE-86B6-4F44-840E-ECCD297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987-0641-4168-9648-AC3E553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98C22-B8AA-4317-8DD5-EFCF16E3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FE475-C546-48DD-B45D-F74BDFC1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86391-429F-4FF0-84DA-87AC5C6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2A067-F5A2-4BBD-9C5B-53F1F27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65812-E6AB-4E59-88C6-C2F8E27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226A1-F4B1-4169-87D4-50090824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9E76D-46D2-4450-9E69-8F4DBE6C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077D-C4BA-4EDD-96B7-8C448A2F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8B29-25C4-4200-BE30-D3B1990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3F79-9466-4D4C-95DF-3781ECF6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551-A6BF-4969-B304-3699EAD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DB56-1430-47FF-84B5-A96E6886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6D31-4C31-445A-A4E0-1D31525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19BF-B4AA-42DE-A4E8-C7D4FFD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F693-EB37-4C58-AD4C-F6B2F88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B6BB-9359-4919-BFD2-5C9ACA5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CF79-ED6B-4B44-B52B-2F3CBB7D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19E7-1A46-4C6C-94CD-C63E0BB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835C-F450-4825-A837-A3793ACA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087F-3E2A-4481-A9FF-268ED0B4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9D2B-2BAB-4462-9C9A-D676A0CE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5F8-8BF9-4615-8C9A-C07FF4B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EC70-C21F-44A5-99BD-48487EB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9758-4059-4064-90C6-CDBDD0D2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B254-87E3-4920-B13D-8E1F30D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BD20-8C1E-407E-AB4F-B608032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C573-7424-41D7-88B6-452B7FC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8BDE-BF0B-41F3-B23B-71536F3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3CAE-2679-408F-8D8C-DA8F7A0E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EE27-78C8-4F60-A20B-5BFBE9B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D030-9603-4C12-8760-8E9D5216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D00A-0BE3-47FF-A362-A52DE956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1E7-AE1A-4078-B68D-EB85434D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BFA9-0C7C-4CC6-AECB-804835C5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4AE-98B5-40F7-88B7-23C36AE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524-5FFF-4D4E-9455-173A82C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17-F34F-4975-B298-8D097A9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9B99-EB29-46D0-AF55-DF44EAACA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E748-BD03-4673-BDF2-3D8EC06103D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2D16-28FC-4286-8B4F-C0160C190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7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8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CC9-59D7-4FF3-A2D7-C7C52BEE25D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8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1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Прямоугольник с одним вырезанным скругленным углом 11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ый треугольник 1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олилиния 1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олилиния 1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D3AA-02D4-489D-81E7-B633F72B74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45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e88"/>
                </a:solidFill>
                <a:latin typeface="Tahoma"/>
              </a:rPr>
              <a:t>Классный час по профориентации для учащихся 9-го класса </a:t>
            </a:r>
            <a:br>
              <a:rPr sz="4400"/>
            </a:br>
            <a:r>
              <a:rPr b="1" lang="ru-RU" sz="6000" spc="-1" strike="noStrike">
                <a:solidFill>
                  <a:srgbClr val="371d57"/>
                </a:solidFill>
                <a:latin typeface="Tahoma"/>
              </a:rPr>
              <a:t>«В поисках будущей  профессии"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76360" y="5589360"/>
            <a:ext cx="381636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омарева Е.Н., учитель музыки и искусства МКОУ СОШ с УИОП пг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ьяново Подосиновского района Киров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332000" y="3068640"/>
            <a:ext cx="64008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Овал 2"/>
          <p:cNvSpPr/>
          <p:nvPr/>
        </p:nvSpPr>
        <p:spPr>
          <a:xfrm>
            <a:off x="2484360" y="1989000"/>
            <a:ext cx="3095640" cy="2808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3"/>
          <p:cNvSpPr/>
          <p:nvPr/>
        </p:nvSpPr>
        <p:spPr>
          <a:xfrm>
            <a:off x="3708360" y="1989000"/>
            <a:ext cx="3095640" cy="2808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1"/>
          <p:cNvSpPr/>
          <p:nvPr/>
        </p:nvSpPr>
        <p:spPr>
          <a:xfrm>
            <a:off x="2916360" y="2349360"/>
            <a:ext cx="3095640" cy="280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3428640" y="364500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ХОЧ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2474640" y="242100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МОГ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4645800" y="2781360"/>
            <a:ext cx="217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71d57"/>
                </a:solidFill>
                <a:latin typeface="Tahoma"/>
              </a:rPr>
              <a:t>НАДО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00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итуация № 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ня пока не знает, чего она хочет, способностей и талантов у нее особых нет, да и на поиски их не хватает времени. Но от богатства и славы не отказалась бы. В общем, хочется ей делать что-то , а что, она не знает. Кстати, таких чудаков немало — больше половины всех выпускни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акому рисунку относится это описа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5834160" cy="187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туация № 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а хочет быть «как все». Чтобы была своя семья, дом, дети. Звезд с неба она не хватает и талантами не блещет. Но ей нравится возиться с детьми, а у них в городе постоянно не хватает воспитателей в детских садах. Она и решила стать воспитателем. И попала в точ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какому рисунку относится это опис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5905440" cy="190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туация № 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ша хочет быть программистом. Компьютер он знает как свои 5 пальцев, читает книги по программированию, сделал свой сайт. А информационные технологии сейчас востребованы везде, так что выбор Саши оказался самым удачным. Как же у Саши получился такой удачный выбо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акому рисунку относится это описа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476360" y="4724280"/>
            <a:ext cx="5832360" cy="187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ahoma"/>
              </a:rPr>
              <a:t>Психологические типы профессий 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(классификация професс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ловек-человек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ловек-техника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ловек-знаковая система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ловек-художественный образ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ловек-природа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1d57"/>
                </a:solidFill>
                <a:latin typeface="Tahoma"/>
              </a:rPr>
              <a:t>Человек –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ут для специалиста предметом труда является другой человек, а    характерной  чертой  деятельности  – необходимость  воздействия на других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5" descr="00033717"/>
          <p:cNvPicPr/>
          <p:nvPr/>
        </p:nvPicPr>
        <p:blipFill>
          <a:blip r:embed="rId1"/>
          <a:stretch/>
        </p:blipFill>
        <p:spPr>
          <a:xfrm>
            <a:off x="1187280" y="4270320"/>
            <a:ext cx="3097440" cy="2095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00036169"/>
          <p:cNvPicPr/>
          <p:nvPr/>
        </p:nvPicPr>
        <p:blipFill>
          <a:blip r:embed="rId2"/>
          <a:stretch/>
        </p:blipFill>
        <p:spPr>
          <a:xfrm>
            <a:off x="7020000" y="189000"/>
            <a:ext cx="1419120" cy="1727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00035281"/>
          <p:cNvPicPr/>
          <p:nvPr/>
        </p:nvPicPr>
        <p:blipFill>
          <a:blip r:embed="rId3"/>
          <a:stretch/>
        </p:blipFill>
        <p:spPr>
          <a:xfrm>
            <a:off x="5713560" y="3933720"/>
            <a:ext cx="251604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7120" y="291960"/>
            <a:ext cx="8329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1d57"/>
                </a:solidFill>
                <a:latin typeface="Tahoma"/>
              </a:rPr>
              <a:t>Человек – техн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Это представители профессий,  использующие технические устр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4" descr="00033707"/>
          <p:cNvPicPr/>
          <p:nvPr/>
        </p:nvPicPr>
        <p:blipFill>
          <a:blip r:embed="rId1"/>
          <a:stretch/>
        </p:blipFill>
        <p:spPr>
          <a:xfrm>
            <a:off x="4859280" y="3429000"/>
            <a:ext cx="3960720" cy="2706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00034548"/>
          <p:cNvPicPr/>
          <p:nvPr/>
        </p:nvPicPr>
        <p:blipFill>
          <a:blip r:embed="rId2"/>
          <a:stretch/>
        </p:blipFill>
        <p:spPr>
          <a:xfrm>
            <a:off x="6227640" y="26028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00036528"/>
          <p:cNvPicPr/>
          <p:nvPr/>
        </p:nvPicPr>
        <p:blipFill>
          <a:blip r:embed="rId3"/>
          <a:stretch/>
        </p:blipFill>
        <p:spPr>
          <a:xfrm>
            <a:off x="611280" y="3429000"/>
            <a:ext cx="3960720" cy="27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1d57"/>
                </a:solidFill>
                <a:latin typeface="Tahoma"/>
              </a:rPr>
              <a:t>Человек – знаковая сис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125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юди, выбравшие  этот тип профессиональной деятельности, должен иметь широкий кругозо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фессии  этого типа требуют способность к отвлеченному мышлению, оперированию числами, длительному и сосредоточенному вниманию, усидч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4" descr="00036023"/>
          <p:cNvPicPr/>
          <p:nvPr/>
        </p:nvPicPr>
        <p:blipFill>
          <a:blip r:embed="rId1"/>
          <a:stretch/>
        </p:blipFill>
        <p:spPr>
          <a:xfrm>
            <a:off x="3654360" y="5373720"/>
            <a:ext cx="2032200" cy="1484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00036007"/>
          <p:cNvPicPr/>
          <p:nvPr/>
        </p:nvPicPr>
        <p:blipFill>
          <a:blip r:embed="rId2"/>
          <a:stretch/>
        </p:blipFill>
        <p:spPr>
          <a:xfrm>
            <a:off x="6407280" y="5037120"/>
            <a:ext cx="2736720" cy="1820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00034315"/>
          <p:cNvPicPr/>
          <p:nvPr/>
        </p:nvPicPr>
        <p:blipFill>
          <a:blip r:embed="rId3"/>
          <a:stretch/>
        </p:blipFill>
        <p:spPr>
          <a:xfrm>
            <a:off x="539640" y="5140440"/>
            <a:ext cx="2232000" cy="171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1d57"/>
                </a:solidFill>
                <a:latin typeface="Tahoma"/>
              </a:rPr>
              <a:t>Человек - художественный обр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юдей этого типа отличает наличие живого образного мышления, художественная                                                                       фантазия, тала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4" descr="00033563"/>
          <p:cNvPicPr/>
          <p:nvPr/>
        </p:nvPicPr>
        <p:blipFill>
          <a:blip r:embed="rId1"/>
          <a:stretch/>
        </p:blipFill>
        <p:spPr>
          <a:xfrm>
            <a:off x="539640" y="3860640"/>
            <a:ext cx="2351160" cy="158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00034602"/>
          <p:cNvPicPr/>
          <p:nvPr/>
        </p:nvPicPr>
        <p:blipFill>
          <a:blip r:embed="rId2"/>
          <a:stretch/>
        </p:blipFill>
        <p:spPr>
          <a:xfrm>
            <a:off x="6084720" y="2565360"/>
            <a:ext cx="1513080" cy="2274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00034754"/>
          <p:cNvPicPr/>
          <p:nvPr/>
        </p:nvPicPr>
        <p:blipFill>
          <a:blip r:embed="rId3"/>
          <a:stretch/>
        </p:blipFill>
        <p:spPr>
          <a:xfrm>
            <a:off x="3348000" y="4653000"/>
            <a:ext cx="2486160" cy="1671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00035724"/>
          <p:cNvPicPr/>
          <p:nvPr/>
        </p:nvPicPr>
        <p:blipFill>
          <a:blip r:embed="rId4"/>
          <a:stretch/>
        </p:blipFill>
        <p:spPr>
          <a:xfrm>
            <a:off x="6516720" y="5046840"/>
            <a:ext cx="2087640" cy="18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1d57"/>
                </a:solidFill>
                <a:latin typeface="Tahoma"/>
              </a:rPr>
              <a:t>Человек – при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181440" y="1699920"/>
            <a:ext cx="9325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тот тип объединяет профессии, представители которых имеют дело  с  объектами,  явлениями и процессами  живой и неживой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ля них характерен общий предмет труда: животные, растения, почва и воздушная среда – природ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3" name="Picture 4" descr="00036263"/>
          <p:cNvPicPr/>
          <p:nvPr/>
        </p:nvPicPr>
        <p:blipFill>
          <a:blip r:embed="rId1"/>
          <a:stretch/>
        </p:blipFill>
        <p:spPr>
          <a:xfrm>
            <a:off x="6372360" y="189000"/>
            <a:ext cx="2571480" cy="1655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00036337"/>
          <p:cNvPicPr/>
          <p:nvPr/>
        </p:nvPicPr>
        <p:blipFill>
          <a:blip r:embed="rId2"/>
          <a:stretch/>
        </p:blipFill>
        <p:spPr>
          <a:xfrm>
            <a:off x="3708360" y="4221000"/>
            <a:ext cx="1873440" cy="2409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00036504"/>
          <p:cNvPicPr/>
          <p:nvPr/>
        </p:nvPicPr>
        <p:blipFill>
          <a:blip r:embed="rId3"/>
          <a:stretch/>
        </p:blipFill>
        <p:spPr>
          <a:xfrm>
            <a:off x="6012000" y="4365720"/>
            <a:ext cx="2895480" cy="215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00036377"/>
          <p:cNvPicPr/>
          <p:nvPr/>
        </p:nvPicPr>
        <p:blipFill>
          <a:blip r:embed="rId4"/>
          <a:stretch/>
        </p:blipFill>
        <p:spPr>
          <a:xfrm>
            <a:off x="250920" y="4365720"/>
            <a:ext cx="2881080" cy="221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«Истинное сокровище для людей - умение трудитьс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(Эзоп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«Будем трудиться, потому что труд – это отец удовольств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(Стендаль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ловек-челове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 этому типу  профессий  относятся учитель, врач, журналист, продавец, медсестра, воспитатель, официант, юрист, парикмахер, следователь,    адвокат,    библиотекарь,   экскурсовод, переводчи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4" descr="teacher"/>
          <p:cNvPicPr/>
          <p:nvPr/>
        </p:nvPicPr>
        <p:blipFill>
          <a:blip r:embed="rId1"/>
          <a:stretch/>
        </p:blipFill>
        <p:spPr>
          <a:xfrm>
            <a:off x="7481880" y="171360"/>
            <a:ext cx="1338120" cy="1241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учитель"/>
          <p:cNvPicPr/>
          <p:nvPr/>
        </p:nvPicPr>
        <p:blipFill>
          <a:blip r:embed="rId2"/>
          <a:stretch/>
        </p:blipFill>
        <p:spPr>
          <a:xfrm>
            <a:off x="4932360" y="3860640"/>
            <a:ext cx="3743280" cy="27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ловек-техник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дитель, слесарь, инженер, пилоты, матросы,  электромонтёры,  слесари,  токари,  часовщики конструктор, машинист, строитель, автослесарь, сантехник, горнорабочий и т. 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Picture 4" descr="2"/>
          <p:cNvPicPr/>
          <p:nvPr/>
        </p:nvPicPr>
        <p:blipFill>
          <a:blip r:embed="rId1"/>
          <a:stretch/>
        </p:blipFill>
        <p:spPr>
          <a:xfrm>
            <a:off x="5867280" y="3716280"/>
            <a:ext cx="2713320" cy="2737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электрик"/>
          <p:cNvPicPr/>
          <p:nvPr/>
        </p:nvPicPr>
        <p:blipFill>
          <a:blip r:embed="rId2"/>
          <a:stretch/>
        </p:blipFill>
        <p:spPr>
          <a:xfrm>
            <a:off x="905040" y="3645000"/>
            <a:ext cx="1460160" cy="2808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AG00038_"/>
          <p:cNvPicPr/>
          <p:nvPr/>
        </p:nvPicPr>
        <p:blipFill>
          <a:blip r:embed="rId3"/>
          <a:stretch/>
        </p:blipFill>
        <p:spPr>
          <a:xfrm>
            <a:off x="2916360" y="4149720"/>
            <a:ext cx="2376360" cy="13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ловек-знаковая сист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Это такие профессии, как бухгалтер, экономист, математик, программист,   нотариус, операторы ЭВМ, инженер, кассир, фармацевт, учёные, люди, работающие в лабораториях, научных центрах и т. 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4" descr="22"/>
          <p:cNvPicPr/>
          <p:nvPr/>
        </p:nvPicPr>
        <p:blipFill>
          <a:blip r:embed="rId1"/>
          <a:stretch/>
        </p:blipFill>
        <p:spPr>
          <a:xfrm>
            <a:off x="755640" y="4581360"/>
            <a:ext cx="1803240" cy="187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AG00021_"/>
          <p:cNvPicPr/>
          <p:nvPr/>
        </p:nvPicPr>
        <p:blipFill>
          <a:blip r:embed="rId2"/>
          <a:stretch/>
        </p:blipFill>
        <p:spPr>
          <a:xfrm>
            <a:off x="7020000" y="4564080"/>
            <a:ext cx="1423800" cy="1960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3"/>
          <p:cNvPicPr/>
          <p:nvPr/>
        </p:nvPicPr>
        <p:blipFill>
          <a:blip r:embed="rId3"/>
          <a:stretch/>
        </p:blipFill>
        <p:spPr>
          <a:xfrm>
            <a:off x="3419640" y="4292640"/>
            <a:ext cx="273672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ловек - художественный обр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Художник, архитектор, режиссер, артист, дизайнер, скульптор, дирижер, фокусник, поэт, композитор, искусствовед, балерина, фотограф и т. 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5" descr="AG00011_"/>
          <p:cNvPicPr/>
          <p:nvPr/>
        </p:nvPicPr>
        <p:blipFill>
          <a:blip r:embed="rId1"/>
          <a:stretch/>
        </p:blipFill>
        <p:spPr>
          <a:xfrm>
            <a:off x="1219320" y="3933720"/>
            <a:ext cx="2292120" cy="2590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актер"/>
          <p:cNvPicPr/>
          <p:nvPr/>
        </p:nvPicPr>
        <p:blipFill>
          <a:blip r:embed="rId2"/>
          <a:stretch/>
        </p:blipFill>
        <p:spPr>
          <a:xfrm>
            <a:off x="5364000" y="3933720"/>
            <a:ext cx="3492720" cy="26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ловек-природ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етеринар, агроном, гидролог, овцевод, селекционер, пчеловод, зоотехник, кинолог, геолог, эколог, овощевод, лесник, охотовед, мелиоратор и т. 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5" descr="AG00130_"/>
          <p:cNvPicPr/>
          <p:nvPr/>
        </p:nvPicPr>
        <p:blipFill>
          <a:blip r:embed="rId1"/>
          <a:stretch/>
        </p:blipFill>
        <p:spPr>
          <a:xfrm rot="1559400">
            <a:off x="7216920" y="248760"/>
            <a:ext cx="1422360" cy="1224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AG00142_"/>
          <p:cNvPicPr/>
          <p:nvPr/>
        </p:nvPicPr>
        <p:blipFill>
          <a:blip r:embed="rId2"/>
          <a:stretch/>
        </p:blipFill>
        <p:spPr>
          <a:xfrm>
            <a:off x="6659640" y="4076640"/>
            <a:ext cx="1785960" cy="2232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ветеринар"/>
          <p:cNvPicPr/>
          <p:nvPr/>
        </p:nvPicPr>
        <p:blipFill>
          <a:blip r:embed="rId3"/>
          <a:stretch/>
        </p:blipFill>
        <p:spPr>
          <a:xfrm>
            <a:off x="2843280" y="4221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ологическ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ческ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ицинск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Заголовок 1"/>
          <p:cNvSpPr/>
          <p:nvPr/>
        </p:nvSpPr>
        <p:spPr>
          <a:xfrm>
            <a:off x="324000" y="333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профе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ahoma"/>
              </a:rPr>
              <a:t>Технологические характеристик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0560" y="1905120"/>
            <a:ext cx="797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едмет тр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Цели тр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ства трудов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рудовые опе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ей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абочее место специали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лиматические усло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абоче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Экономические 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2960" y="1857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каких отраслях используе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ов спрос на данную профессию на рынке тру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каких пределах изменяется оплата труда среди специалистов данной профе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ие требования предъявляет профессия к уровню и содержанию образов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ие учебные заведения осуществляют подготовку по данной профе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ие знания и навыки необходимы для успешной профессиональной деятельн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Педагогические характеристи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7905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Медицинские характеристики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24000" y="190512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ой уровень здоровья требуется для данной профе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ие медицинские противопоказания существуют для данной профе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f1530"/>
              </a:buClr>
              <a:buSzPct val="12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акие неблагоприятные условия труда присущи данной професс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2349360"/>
            <a:ext cx="84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Професс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лат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er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«объявлять своим делом») – род трудовой деятельности, требующий определённой подготовки и                         являющийся источником                 существ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3" descr="1c162209d951c4b46ce3f22256508253"/>
          <p:cNvPicPr/>
          <p:nvPr/>
        </p:nvPicPr>
        <p:blipFill>
          <a:blip r:embed="rId1"/>
          <a:stretch/>
        </p:blipFill>
        <p:spPr>
          <a:xfrm>
            <a:off x="826920" y="476280"/>
            <a:ext cx="1441440" cy="179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2"/>
          <p:cNvPicPr/>
          <p:nvPr/>
        </p:nvPicPr>
        <p:blipFill>
          <a:blip r:embed="rId2"/>
          <a:stretch/>
        </p:blipFill>
        <p:spPr>
          <a:xfrm>
            <a:off x="3132000" y="189000"/>
            <a:ext cx="1800360" cy="181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23"/>
          <p:cNvPicPr/>
          <p:nvPr/>
        </p:nvPicPr>
        <p:blipFill>
          <a:blip r:embed="rId3"/>
          <a:stretch/>
        </p:blipFill>
        <p:spPr>
          <a:xfrm>
            <a:off x="5867280" y="318960"/>
            <a:ext cx="3016440" cy="2102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i"/>
          <p:cNvPicPr/>
          <p:nvPr/>
        </p:nvPicPr>
        <p:blipFill>
          <a:blip r:embed="rId4"/>
          <a:stretch/>
        </p:blipFill>
        <p:spPr>
          <a:xfrm rot="886200">
            <a:off x="7510320" y="2647440"/>
            <a:ext cx="1440000" cy="1702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0007-006-Professii-01"/>
          <p:cNvPicPr/>
          <p:nvPr/>
        </p:nvPicPr>
        <p:blipFill>
          <a:blip r:embed="rId5"/>
          <a:stretch/>
        </p:blipFill>
        <p:spPr>
          <a:xfrm>
            <a:off x="5724360" y="4292640"/>
            <a:ext cx="2735280" cy="234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22"/>
          <p:cNvPicPr/>
          <p:nvPr/>
        </p:nvPicPr>
        <p:blipFill>
          <a:blip r:embed="rId6"/>
          <a:stretch/>
        </p:blipFill>
        <p:spPr>
          <a:xfrm>
            <a:off x="3851280" y="5157720"/>
            <a:ext cx="1371600" cy="14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71d57"/>
                </a:solidFill>
                <a:latin typeface="Tahoma"/>
              </a:rPr>
              <a:t>С кем можно поговорить о профессиях? Обратитесь к …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560" y="1905120"/>
            <a:ext cx="797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сихологам- профконсультант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подавателям профессиональных учебных завед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алистам тех профессий, которые Вас интересую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одителям, родственникам и знаком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1d57"/>
                </a:solidFill>
                <a:latin typeface="Tahoma"/>
              </a:rPr>
              <a:t>Ошибки и затруднения в выборе проф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ношение к профессии, как к выбору «пожизненного пристанищ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драссудки ч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бор профессии под прямым или косвенным влиянием товарищ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нос отношения к человеку той или иной профессии на самое професс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влечение только внешней стороной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ждествление школьного учебного предмета с професс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арелые представления о професс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умение разобраться в личностных качеств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знание, недооценка своих физических особенностей, недостатков, существующих при выборе профе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лая информация о професс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1d57"/>
                </a:solidFill>
                <a:latin typeface="Tahoma"/>
              </a:rPr>
              <a:t>Ошибки и затруднения в выборе проф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Если Вы правильно выберите труд и вложите в него душу, то счастье само Вас отыще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.Д.Ушин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ffff"/>
                </a:solidFill>
                <a:latin typeface="Tahoma"/>
              </a:rPr>
              <a:t>Спасибо </a:t>
            </a:r>
            <a:endParaRPr b="0" lang="en-US" sz="115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ffff"/>
                </a:solidFill>
                <a:latin typeface="Tahoma"/>
              </a:rPr>
              <a:t>за внимание!</a:t>
            </a:r>
            <a:endParaRPr b="0" lang="en-US" sz="1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Факторы, которые влияют на выбор профе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Знания о профессиях, рынке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Мнение сверст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Склонности, интере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Спос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Здоровь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Мнение родителей, семь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Позиция учителей, психологов, врач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Уровень притязаний и самооц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Личный профессиональный план (план карьер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e88"/>
                </a:solidFill>
                <a:latin typeface="Tahoma"/>
              </a:rPr>
              <a:t>Современные профе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Аудитор –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лицо, уполномоченное финансовым органом или приглашенное предприятием, фирмой провести проверку его отчетности и финансового положения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Брокер –</a:t>
            </a: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посредник при заключении сделок, анализирует рынок, находит потенциальных покупателей и продавцов, организует их взаимодействие, содействует проведению переговоров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e88"/>
                </a:solidFill>
                <a:latin typeface="Tahoma"/>
              </a:rPr>
              <a:t>Современные профе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Менеджер по продажам </a:t>
            </a: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авец, посредник между производителем и потребителем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Системотехник</a:t>
            </a:r>
            <a:r>
              <a:rPr b="1" i="1" lang="ru-RU" sz="3700" spc="-1" strike="noStrike">
                <a:solidFill>
                  <a:srgbClr val="ff0000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ециалист по проектированию, созданию, испытанию и эксплуатации сложных сист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Экономист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товит данные для планирования производственной и финансовой деятельности, проводит экономический анализ и определяет экономическую эффективность работ, исследований, разработ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1d57"/>
                </a:solidFill>
                <a:latin typeface="Tahoma"/>
              </a:rPr>
              <a:t>Выбор профессии не должен быть случайным.</a:t>
            </a:r>
            <a:br>
              <a:rPr sz="3200"/>
            </a:br>
            <a:r>
              <a:rPr b="1" lang="ru-RU" sz="3200" spc="-1" strike="noStrike">
                <a:solidFill>
                  <a:srgbClr val="371d57"/>
                </a:solidFill>
                <a:latin typeface="Tahoma"/>
              </a:rPr>
              <a:t>Должны выполняться три условия: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86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Хочу – мои жел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гу – способности и возмо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о – востребованность проф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Овал 1"/>
          <p:cNvSpPr/>
          <p:nvPr/>
        </p:nvSpPr>
        <p:spPr>
          <a:xfrm>
            <a:off x="2987640" y="3141720"/>
            <a:ext cx="3097080" cy="280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ХОЧ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2"/>
          <p:cNvSpPr/>
          <p:nvPr/>
        </p:nvSpPr>
        <p:spPr>
          <a:xfrm>
            <a:off x="1187280" y="836640"/>
            <a:ext cx="3097440" cy="2808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МОГ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4284720" y="549360"/>
            <a:ext cx="3095640" cy="2808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71d57"/>
                </a:solidFill>
                <a:latin typeface="Tahoma"/>
              </a:rPr>
              <a:t>НАДО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6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1"/>
          <p:cNvSpPr/>
          <p:nvPr/>
        </p:nvSpPr>
        <p:spPr>
          <a:xfrm>
            <a:off x="2987640" y="3141720"/>
            <a:ext cx="3097080" cy="280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ХОЧ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Овал 2"/>
          <p:cNvSpPr/>
          <p:nvPr/>
        </p:nvSpPr>
        <p:spPr>
          <a:xfrm>
            <a:off x="1332000" y="1413000"/>
            <a:ext cx="3095640" cy="2808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1d57"/>
                </a:solidFill>
                <a:latin typeface="Tahoma"/>
              </a:rPr>
              <a:t>МОГ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3995640" y="1268280"/>
            <a:ext cx="3097440" cy="2808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71d57"/>
                </a:solidFill>
                <a:latin typeface="Tahoma"/>
              </a:rPr>
              <a:t>НАДО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01:26Z</dcterms:created>
  <dc:creator>Мама</dc:creator>
  <dc:description/>
  <dc:language>en-US</dc:language>
  <cp:lastModifiedBy>Пользователь</cp:lastModifiedBy>
  <dcterms:modified xsi:type="dcterms:W3CDTF">2013-05-22T10:09:07Z</dcterms:modified>
  <cp:revision>65</cp:revision>
  <dc:subject/>
  <dc:title>Классный час</dc:title>
</cp:coreProperties>
</file>